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982-DB16-4841-B907-F09ABEC8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2BA-DD13-48DD-9334-EFD4CBC4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4CB-090D-48C9-81AA-CF79FC0C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A34-AA7E-4213-82A8-E72D52E6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3CF-2772-4EBD-817C-9D5F90A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ACD-110A-431F-803C-88CD652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A38-9BE3-4496-9408-0677FE5E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4A1-8A0D-4114-A627-8307BAA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2FB-1182-4EC3-BF2A-AC1C8FF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D99-B09E-416D-92AD-AB6BB46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7ED-44BF-4A26-8E6F-B2E3C2A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2F9-89F5-417E-B9FF-DB51F12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F551-69BF-4782-94FF-BF6026D768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5:12Z</dcterms:modified>
  <cp:revision>30</cp:revision>
  <dc:subject/>
  <dc:title>幻灯片 1</dc:title>
</cp:coreProperties>
</file>